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10.png" ContentType="image/png"/>
  <Override PartName="/ppt/media/image5.png" ContentType="image/png"/>
  <Override PartName="/ppt/media/image28.png" ContentType="image/png"/>
  <Override PartName="/ppt/media/image4.wmf" ContentType="image/x-wmf"/>
  <Override PartName="/ppt/media/image27.png" ContentType="image/png"/>
  <Override PartName="/ppt/media/image26.png" ContentType="image/png"/>
  <Override PartName="/ppt/media/image14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2BF44-D22B-4551-9C67-935E48ECD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73893-2B2B-41B8-A025-D9CFEB00A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B8B9C-52F1-427A-AF46-21B637754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ADDA8-A61F-4775-901F-A348C3B5E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957AD-5C57-4F85-8E36-86A21BFBB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6AA8D-A0FE-4E4C-A276-A46DCED9A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2D50C-97C5-441C-A739-9B46A42B6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5FBF7-4642-4460-810F-B7E968988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78CD7-ACAB-4B15-AEA6-5F9750952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C1084-FAF6-4498-84A8-965206686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C171F-E8DE-4CD4-B6AB-2065794B4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938AA-31AF-4B5E-B282-753491455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894BF-3E72-4B33-8EF3-C9CE5A859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8DDED-BFF8-4C04-8436-758196AEB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B650B-FEDB-411C-8372-9BB77A701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E0935-4A15-4C05-89D9-4BD037AB5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7CE98-11AB-4A5A-9BF4-184D9E6F0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E1491-C55E-4723-B293-C6369E254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185D4-9797-45E9-B711-49AD8F768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07D39-39D3-445E-AD3C-9326544ED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637C6-400C-40EF-A8D6-9EBB80834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C6760-C84A-4B26-B085-8F3639F70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A566A-BF4E-4538-B1C4-F6BAAFEF3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2C62F-F798-4AB7-B35B-1C5A314BA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4C8F2-FFD6-496D-B3F5-23C5B1B1B385}" type="slidenum">
              <a:rPr b="0" lang="en-US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8f48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78f4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8f8f8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B1560-8B8B-4795-8E2D-BBE2FC5D1ABA}" type="slidenum">
              <a:rPr b="1" lang="en-US" sz="1200" spc="-1" strike="noStrike">
                <a:solidFill>
                  <a:srgbClr val="f8f8f8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16.xml"/><Relationship Id="rId3" Type="http://schemas.openxmlformats.org/officeDocument/2006/relationships/slide" Target="slide19.xml"/><Relationship Id="rId4" Type="http://schemas.openxmlformats.org/officeDocument/2006/relationships/slide" Target="slide26.xml"/><Relationship Id="rId5" Type="http://schemas.openxmlformats.org/officeDocument/2006/relationships/slide" Target="slide28.xml"/><Relationship Id="rId6" Type="http://schemas.openxmlformats.org/officeDocument/2006/relationships/slide" Target="slide36.xml"/><Relationship Id="rId7" Type="http://schemas.openxmlformats.org/officeDocument/2006/relationships/slide" Target="slide42.xml"/><Relationship Id="rId8" Type="http://schemas.openxmlformats.org/officeDocument/2006/relationships/slide" Target="slide43.xml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0000" y="2060640"/>
            <a:ext cx="7772400" cy="216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บรมทักษะ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 </a:t>
            </a:r>
            <a:br>
              <a:rPr sz="6000"/>
            </a:b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ขียนรายงานฉบับสมบูรณ์</a:t>
            </a: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”</a:t>
            </a:r>
            <a:endParaRPr b="0" lang="en-US" sz="6000" spc="-1" strike="noStrike">
              <a:solidFill>
                <a:srgbClr val="078f48"/>
              </a:solidFill>
              <a:latin typeface="Trebuchet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15640" y="0"/>
            <a:ext cx="75438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ใน 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ณะผู้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28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403280" y="836640"/>
            <a:ext cx="6034320" cy="524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9" name=""/>
          <p:cNvSpPr/>
          <p:nvPr/>
        </p:nvSpPr>
        <p:spPr>
          <a:xfrm>
            <a:off x="7667640" y="69228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57263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67640" y="206064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38106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การทำ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67640" y="3500280"/>
            <a:ext cx="1224000" cy="754200"/>
          </a:xfrm>
          <a:prstGeom prst="borderCallout1">
            <a:avLst>
              <a:gd name="adj1" fmla="val 18750"/>
              <a:gd name="adj2" fmla="val -8333"/>
              <a:gd name="adj3" fmla="val 200208"/>
              <a:gd name="adj4" fmla="val -90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ที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2640" y="49032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3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531800" y="1052640"/>
            <a:ext cx="6927840" cy="5073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8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5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476360" y="1052640"/>
            <a:ext cx="6753240" cy="5211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7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908000" y="1341360"/>
            <a:ext cx="6347160" cy="49244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8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2640" y="41904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9" name="Rectangle 3" descr=""/>
          <p:cNvPicPr/>
          <p:nvPr/>
        </p:nvPicPr>
        <p:blipFill>
          <a:blip r:embed="rId1"/>
          <a:srcRect l="13022" t="23135" r="50090" b="13253"/>
          <a:stretch/>
        </p:blipFill>
        <p:spPr>
          <a:xfrm>
            <a:off x="1581120" y="912960"/>
            <a:ext cx="6951600" cy="52131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คัดย่อ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41" name="Rectangle 3" descr=""/>
          <p:cNvPicPr/>
          <p:nvPr/>
        </p:nvPicPr>
        <p:blipFill>
          <a:blip r:embed="rId1"/>
          <a:srcRect l="52080" t="24350" r="11032" b="19646"/>
          <a:stretch/>
        </p:blipFill>
        <p:spPr>
          <a:xfrm>
            <a:off x="1116000" y="1197000"/>
            <a:ext cx="6743880" cy="5327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42" name="">
            <a:hlinkClick r:id="rId2" action="ppaction://hlinksldjump"/>
          </p:cNvPr>
          <p:cNvSpPr/>
          <p:nvPr/>
        </p:nvSpPr>
        <p:spPr>
          <a:xfrm>
            <a:off x="8388360" y="6381720"/>
            <a:ext cx="576360" cy="287280"/>
          </a:xfrm>
          <a:custGeom>
            <a:avLst/>
            <a:gdLst>
              <a:gd name="textAreaLeft" fmla="*/ 18360 w 576360"/>
              <a:gd name="textAreaRight" fmla="*/ 558000 w 576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43308" h="21600">
                <a:moveTo>
                  <a:pt x="0" y="0"/>
                </a:moveTo>
                <a:lnTo>
                  <a:pt x="43308" y="0"/>
                </a:lnTo>
                <a:lnTo>
                  <a:pt x="43308" y="21600"/>
                </a:lnTo>
                <a:lnTo>
                  <a:pt x="0" y="21600"/>
                </a:lnTo>
                <a:close/>
              </a:path>
              <a:path fill="lightenLess" w="43308" h="21600">
                <a:moveTo>
                  <a:pt x="0" y="0"/>
                </a:moveTo>
                <a:lnTo>
                  <a:pt x="43308" y="0"/>
                </a:lnTo>
                <a:lnTo>
                  <a:pt x="41908" y="1400"/>
                </a:lnTo>
                <a:lnTo>
                  <a:pt x="1400" y="1400"/>
                </a:lnTo>
                <a:close/>
              </a:path>
              <a:path fill="darken" w="43308" h="21600">
                <a:moveTo>
                  <a:pt x="43308" y="0"/>
                </a:moveTo>
                <a:lnTo>
                  <a:pt x="43308" y="21600"/>
                </a:lnTo>
                <a:lnTo>
                  <a:pt x="41908" y="20200"/>
                </a:lnTo>
                <a:lnTo>
                  <a:pt x="41908" y="1400"/>
                </a:lnTo>
                <a:close/>
              </a:path>
              <a:path fill="darkenLess" w="43308" h="21600">
                <a:moveTo>
                  <a:pt x="433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908" y="20200"/>
                </a:lnTo>
                <a:close/>
              </a:path>
              <a:path fill="lighten" w="433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308" h="21600">
                <a:moveTo>
                  <a:pt x="14648" y="10800"/>
                </a:moveTo>
                <a:lnTo>
                  <a:pt x="28661" y="3794"/>
                </a:lnTo>
                <a:lnTo>
                  <a:pt x="28661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380360" y="1989000"/>
            <a:ext cx="73080" cy="100836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360"/>
              <a:gd name="textAreaBottom" fmla="*/ 982080 h 100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08720" y="3213000"/>
            <a:ext cx="73080" cy="100800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380360" y="4437000"/>
            <a:ext cx="71280" cy="1008000"/>
          </a:xfrm>
          <a:custGeom>
            <a:avLst/>
            <a:gdLst>
              <a:gd name="textAreaLeft" fmla="*/ 0 w 71280"/>
              <a:gd name="textAreaRight" fmla="*/ 25560 w 712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335360" y="2147760"/>
            <a:ext cx="193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ิบท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891840" y="3357720"/>
            <a:ext cx="266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952320" y="4595760"/>
            <a:ext cx="274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 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นำ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42640" y="1197000"/>
            <a:ext cx="7543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บทนำ เป็นการนำข้อมูลมาจากข้อเสนอโครงการมาใช้ในการเขียน  มีองค์ประกอบ เช่น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็นมา ความสำคัญของปัญห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การ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อบแนวคิ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ที่ใช้ใ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20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ปม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52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1897200" y="1600200"/>
            <a:ext cx="6419880" cy="4815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3" name=""/>
          <p:cNvSpPr/>
          <p:nvPr/>
        </p:nvSpPr>
        <p:spPr>
          <a:xfrm>
            <a:off x="6516720" y="177156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65935"/>
              <a:gd name="adj4" fmla="val -10981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0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250920" y="476280"/>
            <a:ext cx="8713800" cy="62658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5" name=""/>
          <p:cNvSpPr/>
          <p:nvPr/>
        </p:nvSpPr>
        <p:spPr>
          <a:xfrm>
            <a:off x="7667640" y="836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-2004"/>
              <a:gd name="adj4" fmla="val -11426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ผนการ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164360" y="3716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22013"/>
              <a:gd name="adj4" fmla="val -12049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307280" y="5229360"/>
            <a:ext cx="1512720" cy="792000"/>
          </a:xfrm>
          <a:prstGeom prst="borderCallout1">
            <a:avLst>
              <a:gd name="adj1" fmla="val 18750"/>
              <a:gd name="adj2" fmla="val -8333"/>
              <a:gd name="adj3" fmla="val -601"/>
              <a:gd name="adj4" fmla="val -5057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564000" y="5445000"/>
            <a:ext cx="1512720" cy="792360"/>
          </a:xfrm>
          <a:prstGeom prst="borderCallout1">
            <a:avLst>
              <a:gd name="adj1" fmla="val 18750"/>
              <a:gd name="adj2" fmla="val -8333"/>
              <a:gd name="adj3" fmla="val 17032"/>
              <a:gd name="adj4" fmla="val -12256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132000" y="4437000"/>
            <a:ext cx="1513080" cy="433440"/>
          </a:xfrm>
          <a:prstGeom prst="borderCallout1">
            <a:avLst>
              <a:gd name="adj1" fmla="val 18750"/>
              <a:gd name="adj2" fmla="val -8333"/>
              <a:gd name="adj3" fmla="val 63370"/>
              <a:gd name="adj4" fmla="val -11479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03640" y="249228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55310"/>
              <a:gd name="adj4" fmla="val -6425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>
            <a:hlinkClick r:id="rId2" action="ppaction://hlinksldjump"/>
          </p:cNvPr>
          <p:cNvSpPr/>
          <p:nvPr/>
        </p:nvSpPr>
        <p:spPr>
          <a:xfrm>
            <a:off x="8244000" y="6165720"/>
            <a:ext cx="576000" cy="476280"/>
          </a:xfrm>
          <a:custGeom>
            <a:avLst/>
            <a:gdLst>
              <a:gd name="textAreaLeft" fmla="*/ 30600 w 576000"/>
              <a:gd name="textAreaRight" fmla="*/ 545400 w 57600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6119" h="21600">
                <a:moveTo>
                  <a:pt x="0" y="0"/>
                </a:moveTo>
                <a:lnTo>
                  <a:pt x="26119" y="0"/>
                </a:lnTo>
                <a:lnTo>
                  <a:pt x="26119" y="21600"/>
                </a:lnTo>
                <a:lnTo>
                  <a:pt x="0" y="21600"/>
                </a:lnTo>
                <a:close/>
              </a:path>
              <a:path fill="lightenLess" w="26119" h="21600">
                <a:moveTo>
                  <a:pt x="0" y="0"/>
                </a:moveTo>
                <a:lnTo>
                  <a:pt x="26119" y="0"/>
                </a:lnTo>
                <a:lnTo>
                  <a:pt x="24719" y="1400"/>
                </a:lnTo>
                <a:lnTo>
                  <a:pt x="1400" y="1400"/>
                </a:lnTo>
                <a:close/>
              </a:path>
              <a:path fill="darken" w="26119" h="21600">
                <a:moveTo>
                  <a:pt x="26119" y="0"/>
                </a:moveTo>
                <a:lnTo>
                  <a:pt x="26119" y="21600"/>
                </a:lnTo>
                <a:lnTo>
                  <a:pt x="24719" y="20200"/>
                </a:lnTo>
                <a:lnTo>
                  <a:pt x="24719" y="1400"/>
                </a:lnTo>
                <a:close/>
              </a:path>
              <a:path fill="darkenLess" w="26119" h="21600">
                <a:moveTo>
                  <a:pt x="261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19" y="20200"/>
                </a:lnTo>
                <a:close/>
              </a:path>
              <a:path fill="lighten" w="261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19" h="21600">
                <a:moveTo>
                  <a:pt x="6053" y="10800"/>
                </a:moveTo>
                <a:lnTo>
                  <a:pt x="20066" y="3794"/>
                </a:lnTo>
                <a:lnTo>
                  <a:pt x="2006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และงานวิจัยที่เกี่ยวข้อง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 คื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 ทฤษฎ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งานวิจัยที่เกี่ยวข้อง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0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2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2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20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276720" y="189000"/>
            <a:ext cx="2808000" cy="792000"/>
          </a:xfrm>
          <a:prstGeom prst="wedgeRoundRectCallout">
            <a:avLst>
              <a:gd name="adj1" fmla="val 81824"/>
              <a:gd name="adj2" fmla="val 419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6600ff"/>
                </a:solidFill>
                <a:latin typeface="Trebuchet MS"/>
                <a:cs typeface="5011_thE_Little_Uki_noworry"/>
              </a:rPr>
              <a:t>โครงการที่รับทุน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280" y="980640"/>
            <a:ext cx="838836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โปรแกรมเพื่อการจัดการสารสนเทศบ้านศรีดอนมูล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แนวทางการจัดการป่าชุมชน ฯ บ้านแม่กึ๊ด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สื่อวีดีโอกระบวนการหาประเด็นข้อตกลงในการจัดการงาน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ศพ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SimSun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การใช้ทำนอง “แมงปู้ชมดวง” ในการเทศน์มหาชาติเวสสันดรชาดก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ทางการพัฒนาศักยภาพเพื่อการเพิ่มมูลค่าผลิตภัณฑ์ของชุมชนบ้านแม่แจ๋ม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บริหารจัดการกลุ่ม ศก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พอเพียง ฯ บ้านกิ่ว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ถอดองค์ความรู้ภูมิปัญญหาการทำนาข้าวเฮี้ย ฯ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ความเป้นไปได้ในการพัฒนาตลาดปลอดสารฯ บ้านนาบอน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512120" y="0"/>
            <a:ext cx="1631880" cy="176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 และงานวิจัยที่เกี่ยวข้อง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เขียนรายงานผลการศึกษาเอกสารและงานวิจัยที่เกี่ยวข้องโดยมีวัตถุประสงค์เพื่อให้เห็นว่า งานวิจัยเรื่องนี้มี แนวคิด ทฤษฎีหรือผลงานวิจัยอื่น ๆ เป็นพื้นฐานการวางแผนการวิจัย อย่างไร และเพียงใด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ของเนื้อหาบทนี้นอกจากจะชี้ให้เห็นถึงแนวคิด ทฤษฎีและผลงานวิจัยที่เป็นพื้นฐานของงานวิจัยเรื่องนี้แล้ว ยังจะเป็นข้อมูลที่ช่วยให้ผู้ให้ทุนมีความเชื่อมั่นว่า นักศึกษา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มีข้อมูลและแนวทางเพียงพอที่จะดำเนินการ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รายงานผลการศึกษาศึกษาและงานวิจัยที่เกี่ยวข้องฯจะต้องคัดสรรค์สิ่งที่จะเขีย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0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2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2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ในบทที่ </a:t>
            </a:r>
            <a:r>
              <a:rPr b="1" lang="en-US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15640" y="134136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อ้างอิงแทรกในเนื้อห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อ้างอิงข้อมูลเมื่อผู้อ้างคัดลอก ถอดความหรือสรุปสาระสำคัญของผู้อื่นมาไว้ในงานของตน  การลงรายการอ้างอิงแบบนี้เป็นการลงแบบสั้น กะทัดรัด  โดยมีเครื่องหมายวงเล็บเป็นส่วนหนึ่งของการอ้างอิง  มีรายการผู้แต่ง  ปีที่พิมพ์ และเลขหน้า เป็นรายการหลัก และโยงให้ผู้อ่านไปดูการอ้างอิงท้ายเล่มหรือบรรณานุกรมท้ายเล่มของเอกสารนั้น ๆ ด้ว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 u="sng">
                <a:solidFill>
                  <a:srgbClr val="000000"/>
                </a:solidFill>
                <a:uFillTx/>
                <a:latin typeface="5011_thE_Little_Uki_noworry"/>
                <a:cs typeface="5011_thE_Little_Uki_noworry"/>
              </a:rPr>
              <a:t>ตัวอย่า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ที่พิมพ์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หน้าที่ใช้อ้างอิง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ีชา  ช้างยื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44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0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2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2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2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20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20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ที่ใช้บ่อ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900000" y="1600200"/>
          <a:ext cx="8064720" cy="4286160"/>
        </p:xfrm>
        <a:graphic>
          <a:graphicData uri="http://schemas.openxmlformats.org/drawingml/2006/table">
            <a:tbl>
              <a:tblPr/>
              <a:tblGrid>
                <a:gridCol w="2159280"/>
                <a:gridCol w="2736720"/>
                <a:gridCol w="3168720"/>
              </a:tblGrid>
              <a:tr h="325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บุคค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 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ไม่ต้องใส่คำนำหน้าชื่อ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ยศ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ทางวิชาการ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าวต่างประเทศ ใส่เฉพาะ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ประเวศ  วะสี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สถาบั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สถาบันแทนชื่อผู้แต่ง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ำนักงานกองทุนสนับสนุนการวิจั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บรรยาย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สัมภาษณ์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บุชื่อผู้บรรยาย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ที่สัมภาษณ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มคิด  รักไท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,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ัมภาษณ์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455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0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ท้ายเล่มหรือบรรณานุกรม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755640" y="907920"/>
          <a:ext cx="8388360" cy="5486400"/>
        </p:xfrm>
        <a:graphic>
          <a:graphicData uri="http://schemas.openxmlformats.org/drawingml/2006/table">
            <a:tbl>
              <a:tblPr/>
              <a:tblGrid>
                <a:gridCol w="2795760"/>
                <a:gridCol w="5592600"/>
              </a:tblGrid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รายการบรรณานุกรมประกอบด้วย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4 </a:t>
                      </a: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ส่ว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ผู้แต่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ีที่พิมพ์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ื่อเรื่อ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ข้อมูลเกี่ยวกับการพิมพ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ัดเรียงลำดับอักษ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เรียงรายชื่อหนังสือและวัสดุสารสนเทศ ตามลำดับอักษรชื่อผู้แต่ง แต่ง ก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–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ฮ หรือ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A – Z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3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การพิมพ์บรรณานุกร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ให้พิมพ์บรรทัดใหม่ ชิดขอบซ้ายของกระดาษที่เว้นไว้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หากพิมพ์ยาวไม่จบในหนึ่งบรรทัด ให้พิมพ์ต่อในบรรทัดถัดไป โดยย่อหน้าเข้าไป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8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่วงตัวอักษร เริ่มพิมพ์ตัวที่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พิมพ์ไม่จบให้พิมพ์บรรทัดต่อไปตามลำดับ โดยพิมพ์ให้ตรงกับบรรทัดที่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2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นจบรายกา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ในหนังสือไม่ปรากฏปีที่พิมพ์  ภาษาไทย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ะใช้ ม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ตัวอย่างการเขีย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9280" y="1196640"/>
            <a:ext cx="8604360" cy="49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ังสือภาษาไท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หนังส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รั้ง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ีรติ  บุญเจ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คิดแบบ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ิมพ์ครั้งที่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ำปาง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ระตูชัยการ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วิทยานิพนธ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ดับ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บันการศึกษ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ัลวาล  มงค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5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พัฒนางา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ครุศาสตรมหาบัณฑิ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เทคโนโลยีอุตสาหกรรม  สถาบันราชภัฎพระนค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2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2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2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20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20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20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2000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2000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826560" y="333000"/>
            <a:ext cx="831708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ทางวิชาการ  รายงาน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รายงานการ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นติสุข  ยินด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39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เรื่องลู่ทางและโอกาสการส่งออกและผลกระทบจากการมีเขตการค้าเสรีอาเซีย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ฝ่ายแผนงานเศรษฐกิจรายสาขา  สถาบั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เพื่อการพัฒนาแห่งประเทศไท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การประชุมที่พิมพ์เป็นเล่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บทควา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ชื่อรายงานการประชุม วัน เดือน 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ประชุม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่วยงานรับผิดชอบใน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ิทัศน์  ภัทรโยธิ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ลาดซื้อขายสินค้าการเกษต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ักบัญชี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ั่วประเทศ ครั้ง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5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ันวาคม พ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3 – 16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สมาคมนักบัญชีและผู้สอบบัญชีแห่งประเทศไท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>
            <a:hlinkClick r:id="rId1" action="ppaction://hlinksldjump"/>
          </p:cNvPr>
          <p:cNvSpPr/>
          <p:nvPr/>
        </p:nvSpPr>
        <p:spPr>
          <a:xfrm>
            <a:off x="8317080" y="6237360"/>
            <a:ext cx="647640" cy="431640"/>
          </a:xfrm>
          <a:custGeom>
            <a:avLst/>
            <a:gdLst>
              <a:gd name="textAreaLeft" fmla="*/ 27720 w 647640"/>
              <a:gd name="textAreaRight" fmla="*/ 619920 w 647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9194" y="10800"/>
                </a:moveTo>
                <a:lnTo>
                  <a:pt x="23206" y="3794"/>
                </a:lnTo>
                <a:lnTo>
                  <a:pt x="2320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2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2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2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20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20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20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2000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2000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1865160" y="3587760"/>
          <a:ext cx="6193080" cy="1071360"/>
        </p:xfrm>
        <a:graphic>
          <a:graphicData uri="http://schemas.openxmlformats.org/drawingml/2006/table">
            <a:tbl>
              <a:tblPr/>
              <a:tblGrid>
                <a:gridCol w="1547280"/>
                <a:gridCol w="1551240"/>
                <a:gridCol w="1547280"/>
                <a:gridCol w="154728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1865160" y="5230800"/>
          <a:ext cx="6235560" cy="1008000"/>
        </p:xfrm>
        <a:graphic>
          <a:graphicData uri="http://schemas.openxmlformats.org/drawingml/2006/table">
            <a:tbl>
              <a:tblPr/>
              <a:tblGrid>
                <a:gridCol w="1558440"/>
                <a:gridCol w="1560240"/>
                <a:gridCol w="1558440"/>
                <a:gridCol w="1558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1935000" y="2089080"/>
          <a:ext cx="6093000" cy="973080"/>
        </p:xfrm>
        <a:graphic>
          <a:graphicData uri="http://schemas.openxmlformats.org/drawingml/2006/table">
            <a:tbl>
              <a:tblPr/>
              <a:tblGrid>
                <a:gridCol w="1522440"/>
                <a:gridCol w="1525680"/>
                <a:gridCol w="1522440"/>
                <a:gridCol w="1522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fill="hold">
                      <p:stCondLst>
                        <p:cond delay="0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2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2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20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2" dur="2000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ิธีการดำเนินงาน</a:t>
            </a:r>
            <a:r>
              <a:rPr b="0" lang="th-TH" sz="3600" spc="-1" strike="noStrike">
                <a:solidFill>
                  <a:srgbClr val="000000"/>
                </a:solidFill>
                <a:latin typeface="Trebuchet MS"/>
                <a:ea typeface="Angsana New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82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042920" y="1052640"/>
            <a:ext cx="7705800" cy="5545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83" name=""/>
          <p:cNvSpPr/>
          <p:nvPr/>
        </p:nvSpPr>
        <p:spPr>
          <a:xfrm>
            <a:off x="6516720" y="134136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8717"/>
              <a:gd name="adj4" fmla="val -721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50920" y="1844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40879"/>
              <a:gd name="adj4" fmla="val 17885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627280" y="6381720"/>
            <a:ext cx="1224000" cy="432000"/>
          </a:xfrm>
          <a:prstGeom prst="borderCallout1">
            <a:avLst>
              <a:gd name="adj1" fmla="val 18750"/>
              <a:gd name="adj2" fmla="val -8333"/>
              <a:gd name="adj3" fmla="val -193384"/>
              <a:gd name="adj4" fmla="val 1883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236000" y="3860640"/>
            <a:ext cx="1223640" cy="503280"/>
          </a:xfrm>
          <a:prstGeom prst="borderCallout1">
            <a:avLst>
              <a:gd name="adj1" fmla="val 18750"/>
              <a:gd name="adj2" fmla="val -8333"/>
              <a:gd name="adj3" fmla="val -19240"/>
              <a:gd name="adj4" fmla="val -756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ู้เข้าร่ว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67640" y="5877000"/>
            <a:ext cx="1224000" cy="360360"/>
          </a:xfrm>
          <a:prstGeom prst="borderCallout1">
            <a:avLst>
              <a:gd name="adj1" fmla="val 18750"/>
              <a:gd name="adj2" fmla="val -8333"/>
              <a:gd name="adj3" fmla="val 3962"/>
              <a:gd name="adj4" fmla="val -496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เวล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>
            <a:hlinkClick r:id="rId2" action="ppaction://hlinksldjump"/>
          </p:cNvPr>
          <p:cNvSpPr/>
          <p:nvPr/>
        </p:nvSpPr>
        <p:spPr>
          <a:xfrm>
            <a:off x="8459640" y="6381720"/>
            <a:ext cx="505080" cy="405000"/>
          </a:xfrm>
          <a:custGeom>
            <a:avLst/>
            <a:gdLst>
              <a:gd name="textAreaLeft" fmla="*/ 25920 w 505080"/>
              <a:gd name="textAreaRight" fmla="*/ 479160 w 50508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26933" h="21600">
                <a:moveTo>
                  <a:pt x="0" y="0"/>
                </a:moveTo>
                <a:lnTo>
                  <a:pt x="26933" y="0"/>
                </a:lnTo>
                <a:lnTo>
                  <a:pt x="26933" y="21600"/>
                </a:lnTo>
                <a:lnTo>
                  <a:pt x="0" y="21600"/>
                </a:lnTo>
                <a:close/>
              </a:path>
              <a:path fill="lightenLess" w="26933" h="21600">
                <a:moveTo>
                  <a:pt x="0" y="0"/>
                </a:moveTo>
                <a:lnTo>
                  <a:pt x="26933" y="0"/>
                </a:lnTo>
                <a:lnTo>
                  <a:pt x="25533" y="1400"/>
                </a:lnTo>
                <a:lnTo>
                  <a:pt x="1400" y="1400"/>
                </a:lnTo>
                <a:close/>
              </a:path>
              <a:path fill="darken" w="26933" h="21600">
                <a:moveTo>
                  <a:pt x="26933" y="0"/>
                </a:moveTo>
                <a:lnTo>
                  <a:pt x="26933" y="21600"/>
                </a:lnTo>
                <a:lnTo>
                  <a:pt x="25533" y="20200"/>
                </a:lnTo>
                <a:lnTo>
                  <a:pt x="25533" y="1400"/>
                </a:lnTo>
                <a:close/>
              </a:path>
              <a:path fill="darkenLess" w="26933" h="21600">
                <a:moveTo>
                  <a:pt x="269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33" y="20200"/>
                </a:lnTo>
                <a:close/>
              </a:path>
              <a:path fill="lighten" w="269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33" h="21600">
                <a:moveTo>
                  <a:pt x="6460" y="10800"/>
                </a:moveTo>
                <a:lnTo>
                  <a:pt x="20473" y="3794"/>
                </a:lnTo>
                <a:lnTo>
                  <a:pt x="20473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0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 </a:t>
            </a:r>
            <a:br>
              <a:rPr sz="3600"/>
            </a:b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 เป็นการเขียนให้เห็นข้อมูล ถึง ผลที่เกิดขึ้นตามวัตถุประสงค์ หรือข้อมูลของแนวทางการปฎิบัติการทางสังคม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ระทบที่เกิดขึ้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คื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พื้นฐ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างบทบาททีม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fill="hold">
                      <p:stCondLst>
                        <p:cond delay="0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2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20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20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20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20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1" dur="20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2000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Angsana New"/>
              </a:rPr>
              <a:t>ข้อมูลพื้นฐ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2" name="Rectangle 3" descr=""/>
          <p:cNvPicPr/>
          <p:nvPr/>
        </p:nvPicPr>
        <p:blipFill>
          <a:blip r:embed="rId1"/>
          <a:srcRect l="12786" t="17362" r="11461" b="13184"/>
          <a:stretch/>
        </p:blipFill>
        <p:spPr>
          <a:xfrm>
            <a:off x="468360" y="1268280"/>
            <a:ext cx="8136000" cy="4929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93" name=""/>
          <p:cNvSpPr/>
          <p:nvPr/>
        </p:nvSpPr>
        <p:spPr>
          <a:xfrm>
            <a:off x="7524720" y="40464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1703"/>
              <a:gd name="adj4" fmla="val -1228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ชุมช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476280"/>
            <a:ext cx="2124000" cy="792000"/>
          </a:xfrm>
          <a:prstGeom prst="borderCallout1">
            <a:avLst>
              <a:gd name="adj1" fmla="val 18750"/>
              <a:gd name="adj2" fmla="val -8333"/>
              <a:gd name="adj3" fmla="val 196592"/>
              <a:gd name="adj4" fmla="val 12301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 อาณาเขตติดต่อ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ที่อำเภ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0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สำคัญของการเขียน รายงาน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230480" y="1828800"/>
            <a:ext cx="7553880" cy="5174280"/>
            <a:chOff x="1230480" y="1828800"/>
            <a:chExt cx="7553880" cy="5174280"/>
          </a:xfrm>
        </p:grpSpPr>
        <p:sp>
          <p:nvSpPr>
            <p:cNvPr id="91" name="_s19489"/>
            <p:cNvSpPr/>
            <p:nvPr/>
          </p:nvSpPr>
          <p:spPr>
            <a:xfrm>
              <a:off x="2900880" y="18288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_s19490"/>
            <p:cNvSpPr/>
            <p:nvPr/>
          </p:nvSpPr>
          <p:spPr>
            <a:xfrm rot="4320000">
              <a:off x="5037480" y="163044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19497"/>
            <p:cNvSpPr/>
            <p:nvPr/>
          </p:nvSpPr>
          <p:spPr>
            <a:xfrm rot="8640000">
              <a:off x="3724200" y="340236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19499"/>
            <p:cNvSpPr/>
            <p:nvPr/>
          </p:nvSpPr>
          <p:spPr>
            <a:xfrm rot="12960000">
              <a:off x="2074680" y="34002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19492"/>
            <p:cNvSpPr/>
            <p:nvPr/>
          </p:nvSpPr>
          <p:spPr>
            <a:xfrm rot="17280000">
              <a:off x="2368080" y="162828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19487"/>
            <p:cNvSpPr/>
            <p:nvPr/>
          </p:nvSpPr>
          <p:spPr>
            <a:xfrm>
              <a:off x="6085800" y="1939320"/>
              <a:ext cx="154944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ระบวนการออกแบ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ทำงานวิจัย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_s19488"/>
            <p:cNvSpPr/>
            <p:nvPr/>
          </p:nvSpPr>
          <p:spPr>
            <a:xfrm>
              <a:off x="7234920" y="4125600"/>
              <a:ext cx="154944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ผลการดำเนิน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่อนทำ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หลังทำ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_s19491"/>
            <p:cNvSpPr/>
            <p:nvPr/>
          </p:nvSpPr>
          <p:spPr>
            <a:xfrm>
              <a:off x="2373120" y="1941120"/>
              <a:ext cx="155016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บทเรียนที่เกิดขึ้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_s19496"/>
            <p:cNvSpPr/>
            <p:nvPr/>
          </p:nvSpPr>
          <p:spPr>
            <a:xfrm>
              <a:off x="4233960" y="547848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ปัญหา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อุปสรรค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แก้ไ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19498"/>
            <p:cNvSpPr/>
            <p:nvPr/>
          </p:nvSpPr>
          <p:spPr>
            <a:xfrm>
              <a:off x="1230480" y="412920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เครื่องมือการทำ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3694320" y="2985840"/>
              <a:ext cx="2611440" cy="22492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6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905040" y="1054080"/>
            <a:ext cx="7988040" cy="54007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2340000" y="3429000"/>
            <a:ext cx="5111640" cy="2808360"/>
          </a:xfrm>
          <a:prstGeom prst="flowChartAlternateProcess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4" dur="indefinite" restart="never" nodeType="tmRoot">
          <p:childTnLst>
            <p:seq>
              <p:cTn id="775" dur="indefinite" nodeType="mainSeq">
                <p:childTnLst>
                  <p:par>
                    <p:cTn id="776" fill="hold">
                      <p:stCondLst>
                        <p:cond delay="0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403280" y="1197000"/>
          <a:ext cx="6985080" cy="4525920"/>
        </p:xfrm>
        <a:graphic>
          <a:graphicData uri="http://schemas.openxmlformats.org/drawingml/2006/table">
            <a:tbl>
              <a:tblPr/>
              <a:tblGrid>
                <a:gridCol w="1081080"/>
                <a:gridCol w="2835360"/>
                <a:gridCol w="1168560"/>
                <a:gridCol w="19000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ลำดับ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ื่อ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- 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นามสกุ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บทบา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fill="hold">
                      <p:stCondLst>
                        <p:cond delay="0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2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rcRect l="21699" t="17352" r="21880" b="19035"/>
          <a:stretch/>
        </p:blipFill>
        <p:spPr>
          <a:xfrm>
            <a:off x="2124000" y="981000"/>
            <a:ext cx="5761080" cy="5572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3" name=""/>
          <p:cNvSpPr/>
          <p:nvPr/>
        </p:nvSpPr>
        <p:spPr>
          <a:xfrm>
            <a:off x="324000" y="90792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196226"/>
              <a:gd name="adj4" fmla="val 25862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26920" y="4508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-44652"/>
              <a:gd name="adj4" fmla="val 35421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ตำแหน่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596360" y="422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-101259"/>
              <a:gd name="adj4" fmla="val -630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ที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0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9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1763640" y="2492280"/>
            <a:ext cx="655344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rcRect l="23870" t="17352" r="24050" b="13253"/>
          <a:stretch/>
        </p:blipFill>
        <p:spPr>
          <a:xfrm>
            <a:off x="647640" y="765000"/>
            <a:ext cx="8496360" cy="5688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9" name=""/>
          <p:cNvSpPr/>
          <p:nvPr/>
        </p:nvSpPr>
        <p:spPr>
          <a:xfrm>
            <a:off x="468360" y="1484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564"/>
              <a:gd name="adj4" fmla="val 16005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987640" y="51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9310"/>
              <a:gd name="adj4" fmla="val -249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ิ่งที่ได้รั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708360" y="4292640"/>
            <a:ext cx="2016000" cy="504720"/>
          </a:xfrm>
          <a:prstGeom prst="borderCallout1">
            <a:avLst>
              <a:gd name="adj1" fmla="val 18750"/>
              <a:gd name="adj2" fmla="val -8333"/>
              <a:gd name="adj3" fmla="val 43398"/>
              <a:gd name="adj4" fmla="val -17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ุปสรร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276720" y="33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58175"/>
              <a:gd name="adj4" fmla="val -3566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ะสำคั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564000" y="2637000"/>
            <a:ext cx="1871640" cy="504720"/>
          </a:xfrm>
          <a:prstGeom prst="borderCallout1">
            <a:avLst>
              <a:gd name="adj1" fmla="val 18750"/>
              <a:gd name="adj2" fmla="val -8333"/>
              <a:gd name="adj3" fmla="val 66351"/>
              <a:gd name="adj4" fmla="val -1000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เด็นการประชุ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15" name="Rectangle 3" descr=""/>
          <p:cNvPicPr/>
          <p:nvPr/>
        </p:nvPicPr>
        <p:blipFill>
          <a:blip r:embed="rId1"/>
          <a:srcRect l="28210" t="13875" r="28390" b="13294"/>
          <a:stretch/>
        </p:blipFill>
        <p:spPr>
          <a:xfrm>
            <a:off x="1293840" y="981000"/>
            <a:ext cx="7242120" cy="51451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16" name=""/>
          <p:cNvSpPr/>
          <p:nvPr/>
        </p:nvSpPr>
        <p:spPr>
          <a:xfrm>
            <a:off x="2050920" y="3068640"/>
            <a:ext cx="158436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195640" y="3932280"/>
            <a:ext cx="108108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916360" y="2492280"/>
            <a:ext cx="4608360" cy="50508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124000" y="2563920"/>
            <a:ext cx="72072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195640" y="981000"/>
            <a:ext cx="4968720" cy="505080"/>
          </a:xfrm>
          <a:prstGeom prst="flowChartAlternateProcess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2" dur="indefinite" restart="never" nodeType="tmRoot">
          <p:childTnLst>
            <p:seq>
              <p:cTn id="843" dur="indefinite" nodeType="mainSeq">
                <p:childTnLst>
                  <p:par>
                    <p:cTn id="844" fill="hold">
                      <p:stCondLst>
                        <p:cond delay="0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8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Rectangle 3" descr=""/>
          <p:cNvPicPr/>
          <p:nvPr/>
        </p:nvPicPr>
        <p:blipFill>
          <a:blip r:embed="rId1"/>
          <a:srcRect l="28231" t="17338" r="28346" b="13275"/>
          <a:stretch/>
        </p:blipFill>
        <p:spPr>
          <a:xfrm>
            <a:off x="1293840" y="549360"/>
            <a:ext cx="7242120" cy="55785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3708360" y="189000"/>
            <a:ext cx="2303640" cy="504720"/>
          </a:xfrm>
          <a:prstGeom prst="borderCallout1">
            <a:avLst>
              <a:gd name="adj1" fmla="val 18750"/>
              <a:gd name="adj2" fmla="val -8333"/>
              <a:gd name="adj3" fmla="val 83333"/>
              <a:gd name="adj4" fmla="val -30324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ทำเพิ่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979640" y="476280"/>
            <a:ext cx="934920" cy="865080"/>
          </a:xfrm>
          <a:prstGeom prst="flowChartConnector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>
            <a:hlinkClick r:id="rId2" action="ppaction://hlinksldjump"/>
          </p:cNvPr>
          <p:cNvSpPr/>
          <p:nvPr/>
        </p:nvSpPr>
        <p:spPr>
          <a:xfrm>
            <a:off x="8459640" y="6308640"/>
            <a:ext cx="505080" cy="476280"/>
          </a:xfrm>
          <a:custGeom>
            <a:avLst/>
            <a:gdLst>
              <a:gd name="textAreaLeft" fmla="*/ 30600 w 505080"/>
              <a:gd name="textAreaRight" fmla="*/ 474480 w 50508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2905" h="21600">
                <a:moveTo>
                  <a:pt x="0" y="0"/>
                </a:moveTo>
                <a:lnTo>
                  <a:pt x="22905" y="0"/>
                </a:lnTo>
                <a:lnTo>
                  <a:pt x="22905" y="21600"/>
                </a:lnTo>
                <a:lnTo>
                  <a:pt x="0" y="21600"/>
                </a:lnTo>
                <a:close/>
              </a:path>
              <a:path fill="lightenLess" w="22905" h="21600">
                <a:moveTo>
                  <a:pt x="0" y="0"/>
                </a:moveTo>
                <a:lnTo>
                  <a:pt x="22905" y="0"/>
                </a:lnTo>
                <a:lnTo>
                  <a:pt x="21505" y="1400"/>
                </a:lnTo>
                <a:lnTo>
                  <a:pt x="1400" y="1400"/>
                </a:lnTo>
                <a:close/>
              </a:path>
              <a:path fill="darken" w="22905" h="21600">
                <a:moveTo>
                  <a:pt x="22905" y="0"/>
                </a:moveTo>
                <a:lnTo>
                  <a:pt x="22905" y="21600"/>
                </a:lnTo>
                <a:lnTo>
                  <a:pt x="21505" y="20200"/>
                </a:lnTo>
                <a:lnTo>
                  <a:pt x="21505" y="1400"/>
                </a:lnTo>
                <a:close/>
              </a:path>
              <a:path fill="darkenLess" w="22905" h="21600">
                <a:moveTo>
                  <a:pt x="22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05" y="20200"/>
                </a:lnTo>
                <a:close/>
              </a:path>
              <a:path fill="lighten" w="22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05" h="21600">
                <a:moveTo>
                  <a:pt x="4446" y="10800"/>
                </a:moveTo>
                <a:lnTo>
                  <a:pt x="18459" y="3794"/>
                </a:lnTo>
                <a:lnTo>
                  <a:pt x="18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5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อภิปรายผล และข้อเสนอแนะ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ชื่อมโยงกับผลที่เกิดขึ้นของโครงการกับแนวคิดทฤษฎี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0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9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4" dur="2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9" dur="20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4" dur="20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9" dur="20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4" dur="20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8" name="Rectangle 3" descr=""/>
          <p:cNvPicPr/>
          <p:nvPr/>
        </p:nvPicPr>
        <p:blipFill>
          <a:blip r:embed="rId1"/>
          <a:srcRect l="19541" t="17376" r="19662" b="13129"/>
          <a:stretch/>
        </p:blipFill>
        <p:spPr>
          <a:xfrm>
            <a:off x="1258920" y="1341360"/>
            <a:ext cx="7242120" cy="417528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-1032840" y="5678640"/>
            <a:ext cx="11433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สรุปผลการดำเนินงาน ที่ต้องสอดคล้องกับบทที่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+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่ากิจกรรมที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ดำเนินการไปแล้วตอบวัตถุประสงคืหรือไม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ม่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ที่แก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5" dur="indefinite" restart="never" nodeType="tmRoot">
          <p:childTnLst>
            <p:seq>
              <p:cTn id="896" dur="indefinite" nodeType="mainSeq">
                <p:childTnLst>
                  <p:par>
                    <p:cTn id="897" fill="hold">
                      <p:stCondLst>
                        <p:cond delay="0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1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1" name="Rectangle 3" descr=""/>
          <p:cNvPicPr/>
          <p:nvPr/>
        </p:nvPicPr>
        <p:blipFill>
          <a:blip r:embed="rId1"/>
          <a:srcRect l="21714" t="31275" r="19662" b="40927"/>
          <a:stretch/>
        </p:blipFill>
        <p:spPr>
          <a:xfrm>
            <a:off x="1332000" y="1484280"/>
            <a:ext cx="7242120" cy="223200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rcRect l="19541" t="27798" r="19571" b="44404"/>
          <a:stretch/>
        </p:blipFill>
        <p:spPr>
          <a:xfrm>
            <a:off x="1332000" y="3933720"/>
            <a:ext cx="7200720" cy="24480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5148360" y="141300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879"/>
              <a:gd name="adj4" fmla="val -8210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ัก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8" dur="indefinite" restart="never" nodeType="tmRoot">
          <p:childTnLst>
            <p:seq>
              <p:cTn id="909" dur="indefinite" nodeType="mainSeq">
                <p:childTnLst>
                  <p:par>
                    <p:cTn id="910" fill="hold">
                      <p:stCondLst>
                        <p:cond delay="0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เชื่อมโยงกับผลที่เกิดขึ้นของโครงการ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ับแนวคิดทฤษฎีที่เกี่ยวข้อ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5" name="Rectangle 3" descr=""/>
          <p:cNvPicPr/>
          <p:nvPr/>
        </p:nvPicPr>
        <p:blipFill>
          <a:blip r:embed="rId1"/>
          <a:srcRect l="19541" t="24326" r="19571" b="13129"/>
          <a:stretch/>
        </p:blipFill>
        <p:spPr>
          <a:xfrm>
            <a:off x="1293840" y="1197000"/>
            <a:ext cx="7242120" cy="4929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3" dur="indefinite" restart="never" nodeType="tmRoot">
          <p:childTnLst>
            <p:seq>
              <p:cTn id="934" dur="indefinite" nodeType="mainSeq">
                <p:childTnLst>
                  <p:par>
                    <p:cTn id="935" fill="hold">
                      <p:stCondLst>
                        <p:cond delay="0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3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ความสำคัญ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..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ของการเขียน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43000" y="1599840"/>
            <a:ext cx="3697200" cy="44910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89600" y="1600200"/>
            <a:ext cx="3697200" cy="4525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ฐานทุน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403280" y="292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ตามรายกิจกรร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40328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อุปสรรค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แก้ไ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40328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แปลง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0328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ที่ได้รั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0328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ะบวนการออกแบ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21964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219640" y="292428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1" lang="th-TH" sz="1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–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สุดท้า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21964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จากการทำงาน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ร่วมคิดหาวิธีแก้ไ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21964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ของทีม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21964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การทำงานวิจัย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่อน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ง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7" name="Rectangle 3" descr=""/>
          <p:cNvPicPr/>
          <p:nvPr/>
        </p:nvPicPr>
        <p:blipFill>
          <a:blip r:embed="rId1"/>
          <a:srcRect l="21714" t="20848" r="19662" b="13129"/>
          <a:stretch/>
        </p:blipFill>
        <p:spPr>
          <a:xfrm>
            <a:off x="1187280" y="1341360"/>
            <a:ext cx="7543800" cy="471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9" dur="indefinite" restart="never" nodeType="tmRoot">
          <p:childTnLst>
            <p:seq>
              <p:cTn id="940" dur="indefinite" nodeType="mainSeq">
                <p:childTnLst>
                  <p:par>
                    <p:cTn id="941" fill="hold">
                      <p:stCondLst>
                        <p:cond delay="0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5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42640" y="41868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9" name="Rectangle 3" descr=""/>
          <p:cNvPicPr/>
          <p:nvPr/>
        </p:nvPicPr>
        <p:blipFill>
          <a:blip r:embed="rId1"/>
          <a:srcRect l="21617" t="17376" r="18921" b="13129"/>
          <a:stretch/>
        </p:blipFill>
        <p:spPr>
          <a:xfrm>
            <a:off x="1143000" y="692280"/>
            <a:ext cx="7543800" cy="5400720"/>
          </a:xfrm>
          <a:prstGeom prst="rect">
            <a:avLst/>
          </a:prstGeom>
          <a:ln w="0">
            <a:noFill/>
          </a:ln>
        </p:spPr>
      </p:pic>
      <p:sp>
        <p:nvSpPr>
          <p:cNvPr id="240" name="">
            <a:hlinkClick r:id="rId2" action="ppaction://hlinksldjump"/>
          </p:cNvPr>
          <p:cNvSpPr/>
          <p:nvPr/>
        </p:nvSpPr>
        <p:spPr>
          <a:xfrm>
            <a:off x="8317080" y="6308640"/>
            <a:ext cx="502920" cy="360360"/>
          </a:xfrm>
          <a:custGeom>
            <a:avLst/>
            <a:gdLst>
              <a:gd name="textAreaLeft" fmla="*/ 23040 w 502920"/>
              <a:gd name="textAreaRight" fmla="*/ 479880 w 502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137" h="21600">
                <a:moveTo>
                  <a:pt x="0" y="0"/>
                </a:moveTo>
                <a:lnTo>
                  <a:pt x="30137" y="0"/>
                </a:lnTo>
                <a:lnTo>
                  <a:pt x="30137" y="21600"/>
                </a:lnTo>
                <a:lnTo>
                  <a:pt x="0" y="21600"/>
                </a:lnTo>
                <a:close/>
              </a:path>
              <a:path fill="lightenLess" w="30137" h="21600">
                <a:moveTo>
                  <a:pt x="0" y="0"/>
                </a:moveTo>
                <a:lnTo>
                  <a:pt x="30137" y="0"/>
                </a:lnTo>
                <a:lnTo>
                  <a:pt x="28737" y="1400"/>
                </a:lnTo>
                <a:lnTo>
                  <a:pt x="1400" y="1400"/>
                </a:lnTo>
                <a:close/>
              </a:path>
              <a:path fill="darken" w="30137" h="21600">
                <a:moveTo>
                  <a:pt x="30137" y="0"/>
                </a:moveTo>
                <a:lnTo>
                  <a:pt x="30137" y="21600"/>
                </a:lnTo>
                <a:lnTo>
                  <a:pt x="28737" y="20200"/>
                </a:lnTo>
                <a:lnTo>
                  <a:pt x="28737" y="1400"/>
                </a:lnTo>
                <a:close/>
              </a:path>
              <a:path fill="darkenLess" w="30137" h="21600">
                <a:moveTo>
                  <a:pt x="301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37" y="20200"/>
                </a:lnTo>
                <a:close/>
              </a:path>
              <a:path fill="lighten" w="301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37" h="21600">
                <a:moveTo>
                  <a:pt x="8062" y="10800"/>
                </a:moveTo>
                <a:lnTo>
                  <a:pt x="22075" y="3794"/>
                </a:lnTo>
                <a:lnTo>
                  <a:pt x="2207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6" dur="indefinite" restart="never" nodeType="tmRoot">
          <p:childTnLst>
            <p:seq>
              <p:cTn id="947" dur="indefinite" nodeType="mainSeq">
                <p:childTnLst>
                  <p:par>
                    <p:cTn id="948" fill="hold">
                      <p:stCondLst>
                        <p:cond delay="0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รณานุกรม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การเขีย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15640" y="1484280"/>
            <a:ext cx="7543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8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ง 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เช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เพ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ก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รรม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พิธีกรรมคนนาหมื่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,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ัทรา  มาน้อย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7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ดเหล้างา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พ จุดเริ่มต้นสู่การจัด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เบียบสังคมบ้านด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อรุณีวรรณ  บัวเนี่ย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50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ะบวนการสื่อสารในงานวิจัยเพื่อ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้องถิ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>
            <a:hlinkClick r:id="rId1" action="ppaction://hlinksldjump"/>
          </p:cNvPr>
          <p:cNvSpPr/>
          <p:nvPr/>
        </p:nvSpPr>
        <p:spPr>
          <a:xfrm>
            <a:off x="8317080" y="6237360"/>
            <a:ext cx="576000" cy="431640"/>
          </a:xfrm>
          <a:custGeom>
            <a:avLst/>
            <a:gdLst>
              <a:gd name="textAreaLeft" fmla="*/ 27720 w 576000"/>
              <a:gd name="textAreaRight" fmla="*/ 548280 w 576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18" h="21600">
                <a:moveTo>
                  <a:pt x="0" y="0"/>
                </a:moveTo>
                <a:lnTo>
                  <a:pt x="28818" y="0"/>
                </a:lnTo>
                <a:lnTo>
                  <a:pt x="28818" y="21600"/>
                </a:lnTo>
                <a:lnTo>
                  <a:pt x="0" y="21600"/>
                </a:lnTo>
                <a:close/>
              </a:path>
              <a:path fill="lightenLess" w="28818" h="21600">
                <a:moveTo>
                  <a:pt x="0" y="0"/>
                </a:moveTo>
                <a:lnTo>
                  <a:pt x="28818" y="0"/>
                </a:lnTo>
                <a:lnTo>
                  <a:pt x="27418" y="1400"/>
                </a:lnTo>
                <a:lnTo>
                  <a:pt x="1400" y="1400"/>
                </a:lnTo>
                <a:close/>
              </a:path>
              <a:path fill="darken" w="28818" h="21600">
                <a:moveTo>
                  <a:pt x="28818" y="0"/>
                </a:moveTo>
                <a:lnTo>
                  <a:pt x="28818" y="21600"/>
                </a:lnTo>
                <a:lnTo>
                  <a:pt x="27418" y="20200"/>
                </a:lnTo>
                <a:lnTo>
                  <a:pt x="27418" y="1400"/>
                </a:lnTo>
                <a:close/>
              </a:path>
              <a:path fill="darkenLess" w="28818" h="21600">
                <a:moveTo>
                  <a:pt x="288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8" y="20200"/>
                </a:lnTo>
                <a:close/>
              </a:path>
              <a:path fill="lighten" w="288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8" h="21600">
                <a:moveTo>
                  <a:pt x="7403" y="10800"/>
                </a:moveTo>
                <a:lnTo>
                  <a:pt x="21415" y="3794"/>
                </a:lnTo>
                <a:lnTo>
                  <a:pt x="2141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3" dur="indefinite" restart="never" nodeType="tmRoot">
          <p:childTnLst>
            <p:seq>
              <p:cTn id="954" dur="indefinite" nodeType="mainSeq">
                <p:childTnLst>
                  <p:par>
                    <p:cTn id="955" fill="hold">
                      <p:stCondLst>
                        <p:cond delay="0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4" dur="2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9" dur="20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4" dur="2000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9" dur="2000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บรรณานุกรม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(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ภาคผนวก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80" dur="indefinite" restart="never" nodeType="tmRoot">
          <p:childTnLst>
            <p:seq>
              <p:cTn id="981" dur="indefinite" nodeType="mainSeq">
                <p:childTnLst>
                  <p:par>
                    <p:cTn id="982" fill="hold">
                      <p:stCondLst>
                        <p:cond delay="0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6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1" dur="20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6" dur="20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1" dur="20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7" name="Rectangle 3" descr=""/>
          <p:cNvPicPr/>
          <p:nvPr/>
        </p:nvPicPr>
        <p:blipFill>
          <a:blip r:embed="rId1"/>
          <a:srcRect l="19541" t="17376" r="19571" b="20078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324000" y="98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236162"/>
              <a:gd name="adj4" fmla="val 20959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308720" y="1052640"/>
            <a:ext cx="1811520" cy="1296720"/>
          </a:xfrm>
          <a:prstGeom prst="borderCallout1">
            <a:avLst>
              <a:gd name="adj1" fmla="val 18750"/>
              <a:gd name="adj2" fmla="val -8333"/>
              <a:gd name="adj3" fmla="val 149328"/>
              <a:gd name="adj4" fmla="val -1367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ผู้เขียน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หล่งที่เผยแพร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95280" y="2997360"/>
            <a:ext cx="1224000" cy="863280"/>
          </a:xfrm>
          <a:prstGeom prst="borderCallout1">
            <a:avLst>
              <a:gd name="adj1" fmla="val 18750"/>
              <a:gd name="adj2" fmla="val -8333"/>
              <a:gd name="adj3" fmla="val 122240"/>
              <a:gd name="adj4" fmla="val 18768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นื้อหาของ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2" dur="indefinite" restart="never" nodeType="tmRoot">
          <p:childTnLst>
            <p:seq>
              <p:cTn id="1003" dur="indefinite" nodeType="mainSeq">
                <p:childTnLst>
                  <p:par>
                    <p:cTn id="1004" fill="hold">
                      <p:stCondLst>
                        <p:cond delay="0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8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2" name="Rectangle 3" descr=""/>
          <p:cNvPicPr/>
          <p:nvPr/>
        </p:nvPicPr>
        <p:blipFill>
          <a:blip r:embed="rId1"/>
          <a:srcRect l="19541" t="20848" r="19571" b="13129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4" dur="indefinite" restart="never" nodeType="tmRoot">
          <p:childTnLst>
            <p:seq>
              <p:cTn id="1025" dur="indefinite" nodeType="mainSeq">
                <p:childTnLst>
                  <p:par>
                    <p:cTn id="1026" fill="hold">
                      <p:stCondLst>
                        <p:cond delay="0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42640" y="980640"/>
            <a:ext cx="7543800" cy="5543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ุล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มายเลขบัตร ปปช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 เกิด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่อยู่ปัจจุบั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ศัพท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ส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:   ……………….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ถานที่ติดต่อ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าชีพ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บาทหน้าที่ในชุมชน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การศึกษา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สบการณ์ด้านงานวิจัย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านพัฒนา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ทำงานกับชุมช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……………………………………………………………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…………………………………………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>
            <a:hlinkClick r:id="rId1" action="ppaction://hlinksldjump"/>
          </p:cNvPr>
          <p:cNvSpPr/>
          <p:nvPr/>
        </p:nvSpPr>
        <p:spPr>
          <a:xfrm>
            <a:off x="8388360" y="6237360"/>
            <a:ext cx="684360" cy="549360"/>
          </a:xfrm>
          <a:custGeom>
            <a:avLst/>
            <a:gdLst>
              <a:gd name="textAreaLeft" fmla="*/ 35280 w 684360"/>
              <a:gd name="textAreaRight" fmla="*/ 649080 w 684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6905" h="21600">
                <a:moveTo>
                  <a:pt x="0" y="0"/>
                </a:moveTo>
                <a:lnTo>
                  <a:pt x="26905" y="0"/>
                </a:lnTo>
                <a:lnTo>
                  <a:pt x="26905" y="21600"/>
                </a:lnTo>
                <a:lnTo>
                  <a:pt x="0" y="21600"/>
                </a:lnTo>
                <a:close/>
              </a:path>
              <a:path fill="lightenLess" w="26905" h="21600">
                <a:moveTo>
                  <a:pt x="0" y="0"/>
                </a:moveTo>
                <a:lnTo>
                  <a:pt x="26905" y="0"/>
                </a:lnTo>
                <a:lnTo>
                  <a:pt x="25505" y="1400"/>
                </a:lnTo>
                <a:lnTo>
                  <a:pt x="1400" y="1400"/>
                </a:lnTo>
                <a:close/>
              </a:path>
              <a:path fill="darken" w="26905" h="21600">
                <a:moveTo>
                  <a:pt x="26905" y="0"/>
                </a:moveTo>
                <a:lnTo>
                  <a:pt x="26905" y="21600"/>
                </a:lnTo>
                <a:lnTo>
                  <a:pt x="25505" y="20200"/>
                </a:lnTo>
                <a:lnTo>
                  <a:pt x="25505" y="1400"/>
                </a:lnTo>
                <a:close/>
              </a:path>
              <a:path fill="darkenLess" w="26905" h="21600">
                <a:moveTo>
                  <a:pt x="26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05" y="20200"/>
                </a:lnTo>
                <a:close/>
              </a:path>
              <a:path fill="lighten" w="26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05" h="21600">
                <a:moveTo>
                  <a:pt x="6446" y="10800"/>
                </a:moveTo>
                <a:lnTo>
                  <a:pt x="20459" y="3794"/>
                </a:lnTo>
                <a:lnTo>
                  <a:pt x="20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1" dur="indefinite" restart="never" nodeType="tmRoot">
          <p:childTnLst>
            <p:seq>
              <p:cTn id="1032" dur="indefinite" nodeType="mainSeq">
                <p:childTnLst>
                  <p:par>
                    <p:cTn id="1033" fill="hold">
                      <p:stCondLst>
                        <p:cond delay="0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7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2" dur="20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20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2" dur="20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20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2" dur="2000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7" dur="2000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2" dur="2000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7" dur="2000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2" dur="2000"/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2000"/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2" dur="2000"/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7" dur="2000"/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2" dur="2000"/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7" dur="2000"/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2" dur="2000"/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ับสมอง 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มาลองทำกั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ห้แต่ละกลุ่มลองเขียนร่างรายงานฉบับสมบูรณ์  ตามแบบฟอร์มที่กำหนด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๑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๒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จากที่สืบค้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๔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ทำเฉพาะกิจกรรมที่ ๑ –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๕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 เขียน บทเรียนของการได้เรียนรู้ผ่านกระบวน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ละปัญหาอุปสรรค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เสนอ เฉพาะ บทที่ ๔  ให้ทีมผู้เข้าร่วม ช่วยเติมเต็มเนื้อหา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ูปแบบการเขียน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พื่อให้ได้ข้อมูลนำกลับไปแก้ไข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ส่งการบ้าน ช่วง ๑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๐๐ 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การหารือเวทีปิดโครงการ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BPUS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อาทิตย์ที่ ๒๑  ก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๒๕๕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สถานที่ ม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ชภั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3" dur="indefinite" restart="never" nodeType="tmRoot">
          <p:childTnLst>
            <p:seq>
              <p:cTn id="1114" dur="indefinite" nodeType="mainSeq">
                <p:childTnLst>
                  <p:par>
                    <p:cTn id="1115" fill="hold">
                      <p:stCondLst>
                        <p:cond delay="0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9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4" dur="2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9" dur="20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4" dur="20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9" dur="20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4" dur="2000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9" dur="2000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4" dur="2000"/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9" dur="2000"/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4" dur="2000"/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9" dur="2000"/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ของรายงานฉบับสมบูรณ์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1" action="ppaction://hlinksldjump"/>
              </a:rPr>
              <a:t>หน้าปกราย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2" action="ppaction://hlinksldjump"/>
              </a:rPr>
              <a:t>บทที่ 1  บทน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3" action="ppaction://hlinksldjump"/>
              </a:rPr>
              <a:t>บทที่ 2  แนวคิดทฤษฎี และงานวิจัย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4" action="ppaction://hlinksldjump"/>
              </a:rPr>
              <a:t>บทที่ 3 วิธี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5" action="ppaction://hlinksldjump"/>
              </a:rPr>
              <a:t>บทที่ 4 ผลการดำเนินงาน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6" action="ppaction://hlinksldjump"/>
              </a:rPr>
              <a:t>บทที่ 5 สรุปอภิปรายผลและข้อเสนอแน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7" action="ppaction://hlinksldjump"/>
              </a:rPr>
              <a:t>บรรณานุก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8" action="ppaction://hlinksldjump"/>
              </a:rPr>
              <a:t>ภาคผนว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ส่วนประกอบของหน้าปก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หน้า 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กใ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ัดย่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ปกนอก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763640" y="907560"/>
            <a:ext cx="6624720" cy="576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ิ้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ลโก้ 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งานวิจัยฉบับสมบูรณ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...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ด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คณ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ฝ่ายวิจัยท้องถิ่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 ปีที่เสร็จ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rcRect l="12354" t="17352" r="50090" b="13253"/>
          <a:stretch/>
        </p:blipFill>
        <p:spPr>
          <a:xfrm>
            <a:off x="1763640" y="404640"/>
            <a:ext cx="5256360" cy="6193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2" name=""/>
          <p:cNvSpPr/>
          <p:nvPr/>
        </p:nvSpPr>
        <p:spPr>
          <a:xfrm>
            <a:off x="7451640" y="1052640"/>
            <a:ext cx="1224000" cy="609480"/>
          </a:xfrm>
          <a:prstGeom prst="borderCallout1">
            <a:avLst>
              <a:gd name="adj1" fmla="val 18750"/>
              <a:gd name="adj2" fmla="val -8333"/>
              <a:gd name="adj3" fmla="val 258074"/>
              <a:gd name="adj4" fmla="val -159143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524720" y="3068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119037"/>
              <a:gd name="adj4" fmla="val -16835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หัวหน้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451640" y="4941720"/>
            <a:ext cx="1441440" cy="754200"/>
          </a:xfrm>
          <a:prstGeom prst="borderCallout1">
            <a:avLst>
              <a:gd name="adj1" fmla="val 18750"/>
              <a:gd name="adj2" fmla="val -8333"/>
              <a:gd name="adj3" fmla="val 132000"/>
              <a:gd name="adj4" fmla="val -1703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ที่สิ้นสุดโครงการ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ปกใ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42640" y="981000"/>
            <a:ext cx="7543800" cy="561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0000"/>
          </a:bodyPr>
          <a:p>
            <a:pPr marL="5482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ญญาเลขที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.......................................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ตั้งแต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ถึง  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ีมวิจั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</a:t>
            </a:r>
            <a:r>
              <a:rPr b="0" lang="en-US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5T03:43:33Z</dcterms:created>
  <dc:creator>TrueFasterUser</dc:creator>
  <dc:description/>
  <cp:keywords/>
  <dc:language>en-US</dc:language>
  <cp:lastModifiedBy>Express</cp:lastModifiedBy>
  <dcterms:modified xsi:type="dcterms:W3CDTF">2010-01-10T03:44:03Z</dcterms:modified>
  <cp:revision>36</cp:revision>
  <dc:subject/>
  <dc:title>ภาพนิ่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471054</vt:lpwstr>
  </property>
</Properties>
</file>